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B9E-F869-4CBA-B4A7-E7D69E9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62D-8C14-4B6C-9428-28A1CBB6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614-8877-4C3A-8CF1-5B8728F9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5B2-F56E-412E-9CA8-BBB187A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2D8-775F-47CC-94C6-4894B34A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A6E-96E9-487C-90B3-78A232C8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5C5-E083-4B1C-B7CA-580170F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79E-268E-4328-887D-D7686BCD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A84-625F-453E-96CC-898075C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269-315C-4113-B0D6-7262B42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4F3-F7F0-4D83-B03C-5CFD1C78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7D8-4254-4951-81AA-274ECF2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3AA4-6F4C-4F91-9049-05825E79A09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8DB-2AEF-4F75-9D8E-8BB22F3551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90720" y="1750680"/>
            <a:ext cx="67881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伦理审查会议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正案项目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6760" y="2475000"/>
            <a:ext cx="1085364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受理号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试验名称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669960" y="4033800"/>
            <a:ext cx="1076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申办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承担科室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要研究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汇报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631880" y="533520"/>
            <a:ext cx="9144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浙江省人民医院毕节医院伦理委员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685800" y="415800"/>
            <a:ext cx="313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研究进展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12800" y="1635120"/>
          <a:ext cx="10766520" cy="4033800"/>
        </p:xfrm>
        <a:graphic>
          <a:graphicData uri="http://schemas.openxmlformats.org/drawingml/2006/table">
            <a:tbl>
              <a:tblPr/>
              <a:tblGrid>
                <a:gridCol w="2543040"/>
                <a:gridCol w="2806920"/>
                <a:gridCol w="2568600"/>
                <a:gridCol w="2847960"/>
              </a:tblGrid>
              <a:tr h="5256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伦理批准的跟踪审查频率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伦理批件有效期至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1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是否已启动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已有受试者入组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入组例数：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待入组例数：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随访例数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随访例数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606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已在伦理批准该修正案前使用修正文件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批准已使用的原因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若修改知情同意，是否打算重新获取知情同意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对象 3" descr=""/>
          <p:cNvPicPr/>
          <p:nvPr/>
        </p:nvPicPr>
        <p:blipFill>
          <a:blip r:embed="rId1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1566720" y="549360"/>
            <a:ext cx="313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改原因汇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1393920" y="2293920"/>
            <a:ext cx="880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393920" y="550404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a6a6"/>
                </a:solidFill>
                <a:latin typeface="宋体"/>
              </a:rPr>
              <a:t>（请将修正明细上的所有修改原因列明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566720" y="549360"/>
            <a:ext cx="3135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改原因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0" y="1332000"/>
          <a:ext cx="10769760" cy="4875120"/>
        </p:xfrm>
        <a:graphic>
          <a:graphicData uri="http://schemas.openxmlformats.org/drawingml/2006/table">
            <a:tbl>
              <a:tblPr/>
              <a:tblGrid>
                <a:gridCol w="5384880"/>
                <a:gridCol w="5384880"/>
              </a:tblGrid>
              <a:tr h="873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原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原文字描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现文字描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1525680" y="292104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望各位专家们提出宝贵意见，谢谢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Thanks for experts advice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！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31880" y="533520"/>
            <a:ext cx="9144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浙江省人民医院毕节医院伦理委员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9T08:39:00Z</dcterms:created>
  <dc:creator>User</dc:creator>
  <dc:description/>
  <dc:language>en-US</dc:language>
  <cp:lastModifiedBy>e^iπ+1</cp:lastModifiedBy>
  <dcterms:modified xsi:type="dcterms:W3CDTF">2024-04-25T08:30:07Z</dcterms:modified>
  <cp:revision>25</cp:revision>
  <dc:subject/>
  <dc:title>研究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61021DB6E0E499DA2A5DF9CF4E20F55_12</vt:lpwstr>
  </property>
  <property fmtid="{D5CDD505-2E9C-101B-9397-08002B2CF9AE}" pid="3" name="KSOProductBuildVer">
    <vt:lpwstr>2052-12.1.0.16729</vt:lpwstr>
  </property>
  <property fmtid="{D5CDD505-2E9C-101B-9397-08002B2CF9AE}" pid="4" name="KSORubyTemplateID">
    <vt:lpwstr>2</vt:lpwstr>
  </property>
</Properties>
</file>