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B9F-70A4-4DA7-B174-78E0F7EA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0ED-79EE-4C1D-81F7-3753CDA8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29F-51F6-45C3-9242-82716AE7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D47-DD1D-452F-AA32-54D519AE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FA2-4F93-4B85-93B3-A35C8150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D08-B801-4A93-B57E-A33B54D6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B06-38F8-4C6C-954B-5215A68D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0D9-B65C-4191-B228-F54A728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4DA-CA77-47B0-838E-4D0F7D8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FE9-6E06-4B1D-9C85-1A1DFD3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0A5-C253-4825-9DDF-E847C3E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6D3-FAE8-429A-BC61-20BB508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3E2-EEC7-4178-BC14-B6D0293C49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5F8-3446-49FF-8948-D05360015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90720" y="1750680"/>
            <a:ext cx="67881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伦理审查会议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正案项目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6760" y="2475000"/>
            <a:ext cx="1085364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受理号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试验名称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669960" y="4033800"/>
            <a:ext cx="1076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申办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承担科室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主要研究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汇报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631880" y="533520"/>
            <a:ext cx="9144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浙江省人民医院毕节医院伦理委员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685800" y="415800"/>
            <a:ext cx="313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研究进展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12800" y="1635120"/>
          <a:ext cx="10766520" cy="4033800"/>
        </p:xfrm>
        <a:graphic>
          <a:graphicData uri="http://schemas.openxmlformats.org/drawingml/2006/table">
            <a:tbl>
              <a:tblPr/>
              <a:tblGrid>
                <a:gridCol w="2543040"/>
                <a:gridCol w="2806920"/>
                <a:gridCol w="2568600"/>
                <a:gridCol w="2847960"/>
              </a:tblGrid>
              <a:tr h="5256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伦理批准的跟踪审查频率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伦理批件有效期至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1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是否已启动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已有受试者入组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入组例数：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待入组例数：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随访例数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完成随访例数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606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已在伦理批准该修正案前使用修正文件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批准已使用的原因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若修改知情同意，是否打算重新获取知情同意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对象 3" descr=""/>
          <p:cNvPicPr/>
          <p:nvPr/>
        </p:nvPicPr>
        <p:blipFill>
          <a:blip r:embed="rId1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1566720" y="549360"/>
            <a:ext cx="313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改原因汇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1393920" y="2293920"/>
            <a:ext cx="880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393920" y="550404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a6a6"/>
                </a:solidFill>
                <a:latin typeface="宋体"/>
              </a:rPr>
              <a:t>（请将修正明细上的所有修改原因列明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566720" y="549360"/>
            <a:ext cx="3135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修改原因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0" y="1332000"/>
          <a:ext cx="10769760" cy="4875120"/>
        </p:xfrm>
        <a:graphic>
          <a:graphicData uri="http://schemas.openxmlformats.org/drawingml/2006/table">
            <a:tbl>
              <a:tblPr/>
              <a:tblGrid>
                <a:gridCol w="5384880"/>
                <a:gridCol w="5384880"/>
              </a:tblGrid>
              <a:tr h="873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原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修改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原文字描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现文字描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"/>
          <p:cNvSpPr/>
          <p:nvPr/>
        </p:nvSpPr>
        <p:spPr>
          <a:xfrm>
            <a:off x="712800" y="1117440"/>
            <a:ext cx="10767960" cy="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1525680" y="292104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望各位专家们提出宝贵意见，谢谢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Thanks for experts advice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！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31880" y="533520"/>
            <a:ext cx="9144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浙江省人民医院毕节医院伦理委员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9T08:39:00Z</dcterms:created>
  <dc:creator>User</dc:creator>
  <dc:description/>
  <dc:language>en-US</dc:language>
  <cp:lastModifiedBy>e^iπ+1</cp:lastModifiedBy>
  <dcterms:modified xsi:type="dcterms:W3CDTF">2024-04-25T08:30:07Z</dcterms:modified>
  <cp:revision>25</cp:revision>
  <dc:subject/>
  <dc:title>研究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61021DB6E0E499DA2A5DF9CF4E20F55_12</vt:lpwstr>
  </property>
  <property fmtid="{D5CDD505-2E9C-101B-9397-08002B2CF9AE}" pid="3" name="KSOProductBuildVer">
    <vt:lpwstr>2052-12.1.0.16729</vt:lpwstr>
  </property>
  <property fmtid="{D5CDD505-2E9C-101B-9397-08002B2CF9AE}" pid="4" name="KSORubyTemplateID">
    <vt:lpwstr>2</vt:lpwstr>
  </property>
</Properties>
</file>